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E04-CF1A-48C2-9928-69EC23CF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0AB-72CD-4FAA-9269-B8BF1767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EA1-4EB1-4759-943B-ECF0A66B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117-ADAC-4A16-9A32-A91EB124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145-8904-4CC3-A1D6-0E08B15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F90-232C-4E57-B8C4-35BF1024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5FA-5A8D-487E-8FEA-19069E0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7A6-C7B0-4ECD-A8EB-CAE9FA5A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406-03DD-4647-B586-8A57C85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AC5-5C84-43F5-A0EC-8A1B028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593-A949-48A6-98D8-4F8F1AD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DA3-3DCC-4BE9-A1C1-53B4405D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9A8C-2C29-4389-B04E-B582AC493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C829-DB55-4F6D-B1D2-79D93366B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6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803E-153E-43C9-A3C7-E882D7195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 параметров в функц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значени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адре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сыл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B977-2BCB-4CF8-8ED9-7EC28682F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редача по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(int a, int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urn 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передача по адр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(int *a, int *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= 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передача по ссы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(int &amp;a, int &amp;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a += b; return a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1, y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z1 = f (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z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z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A918-AAC6-49A8-9087-E19137B00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ивы в качестве параметров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5411-EEDD-4E8A-B844-587504136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дномерный статически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5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+= 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s[5] = {3, 1, 4, 1, 6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 = sum(m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6F6A-6E78-4584-AB52-FD5884A3B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дномерный статический массив с произвольным числом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(int n, int a[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+= 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s[5] = {3, 1, 4, 1, 6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 = sum(5, m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ABE-F038-4A8D-851A-9DEAC13CC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вумерный статически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][3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2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3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+= a[i]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s[2][3] = {{3, 7, -4}, {1, 0, 5}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C21C-F1BC-4DB6-A4ED-1C461710B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вумерный статический массив с произвольным числом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(int m, int a[][3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3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+= a[i]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s[2][3] = {{3, 7, -4}, {1, 0, 5}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2,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CCAF-B722-47EF-AFED-4D32A7111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Двумерный статический массив с произвольным числом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(Вспомогательный массив указате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n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 += a[i][j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s[2][3] = {{3, 7, -4}, {1, 0, 5}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Mas[] = {mas[0], mas[1]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2, 3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568E-D930-4B5F-BC0E-D1CB09C0E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дномерный динамически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(int n, int *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+= 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mas = new int [5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од массива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 = sum(5, m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30BE-6E5A-4903-9C0E-6971A99A0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Двумерный динамический 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n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 += a[i][j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*mas = new int* 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s[0] = new int[3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s[1] = new int[3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од массива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 = sum(2, 3, ma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18E0-D801-44EC-86B3-B41C479EF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применяются для упрощения разработки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используются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аковые преобразования выполняются в различных участках кода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шком длинный код программы для упрощения разбивается на несколько фраг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8F69-5CE6-4AF8-8CC2-7C3DC9D23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ивы в качестве возвращаем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21BB-F912-4EE1-833D-D54BFE6E0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дномерный динамически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* input (int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a = new int 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mas = input (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BE57-BCBB-4EB7-96CF-62C2DE6AC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Двумерный динамический 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*a = new int* [m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new int 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n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[j] = i*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*mas = input (3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77FF-AF46-4C04-ADFD-2A53079E7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ourier New"/>
              </a:rPr>
              <a:t>Двумерный динамический массив с вводом раз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** input (int &amp;m, int &amp;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“%d%d”, &amp;m, &amp;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*a = new int* [m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new int 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n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“%d”, a[i]+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,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*mas = input (M, 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2A30-7F68-4CC6-B157-8DC287E2B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тель на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x(int a, int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 &gt; b ? a :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in(int a, int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 &lt; b ? a :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3AA-73D3-4EFB-AC14-11E8D59CD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(int a, int b, int (*p)(int, in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t (*p)(int, 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 - это указатель на фун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возвращающую тип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имеющую два параметра типа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p(%d, %d) = %d\n", a, b, p(a,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E0D-3AC6-4E1B-BE14-5BA8E9CF9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(*f[])(int,int) = {max, &amp;min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,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%d", &amp;x, &amp;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, y, &amp;ma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, y, m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2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[%d](%d, %d) = %d\n", i+1, x, y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[i](x,y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жидание нажатия клави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DAEE-A3AF-4519-B501-F3C4F5D4E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5 программа напечатает на экра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(1, 5)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(1, 5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[1](1, 5)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[2](1, 5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C332-7E41-41FE-BB9A-445AAAD10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ные функции в языке С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некоторые функции библиоте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th.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м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рккосин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рксин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рктанге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e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именьшее целое, не меньшее арг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син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кспон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b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бсолютное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o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ее целое, не большее арг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туральный логариф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сятичный логариф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зведение в степ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н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q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вадратны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ге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араметры функций и возвращаемые значения имеют ти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uble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е функции с одним аргументом (кро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w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которой два аргумен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207-B4F7-4588-BA7E-3189DDC89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программа на языке С++ начинается с выполнени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й можно вызывать остальные функции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того, чтобы функция была доступной для вызова до ее вызова она должна быть известна компиля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D9A-410C-40A9-84A4-99D9A9F55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функции состоит из двух частей: заголовка функции и ее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тип_возвращаемого_значения] имя_функции ([список_параметров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тело_функции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исок параметров содержит описание входных параметров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ип имя, тип имя, тип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функции – последовательность операторов, описывающих алгоритм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B26-0D33-4FC3-8AE8-719EFD754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т из функции происходит после выполнения последнего оператора тела функции, либо при выполнении оператор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ператор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использовать для передачи возвращаемого значения, 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iscriminan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b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c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 = b * b – 4 * a *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D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8736-48CA-4038-9BA9-E15D8BC1E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ов функции выглядит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_функции ([список_аргументов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функция возвращает некоторое значение, то оно передается в место вызова функции и является результатом е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и типы аргументов должны совпадать с числом и типом параметров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зове функции параметры подставляются вместо арг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4B9-CC12-45B8-90E9-4CD2F39B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 функции выглядит так же, как заголовок функции, в конце ставится точка с запят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тип_возвращаемого_значения] имя_функции ([список_параметров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 функции может указываться до вызова функции вместо описания функции для того, чтобы компилятор мог проверить соответствие типов параметров и аргу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BFD1-FD2A-490E-A4BE-5B34564BD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а переменных в списке параметров в прототипе функции можно опус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исутствует прототип функции, то описание функции может находиться в любом месте файла программы, либо в другом фай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прим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D32F-BC37-4E9E-90CA-1BCA5D44F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x (int, i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Input a: 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in &gt;&gt;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Input b: 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in &gt;&g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 = max (a, 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c = ” &lt;&l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x 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&gt; y ? x :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19:19Z</dcterms:created>
  <dc:creator>User</dc:creator>
  <dc:description/>
  <dc:language>en-US</dc:language>
  <cp:lastModifiedBy>User</cp:lastModifiedBy>
  <dcterms:modified xsi:type="dcterms:W3CDTF">2009-10-12T20:30:59Z</dcterms:modified>
  <cp:revision>68</cp:revision>
  <dc:subject/>
  <dc:title>Слайд 1</dc:title>
</cp:coreProperties>
</file>