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9275-2899-45C0-BAFD-602626C7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75ED-2E66-4080-AC62-9CDF65BA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1E07-10F3-4300-B33F-A65A8FFD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8BC4-8CCE-449C-964B-11798532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7E9A-38E7-4D83-ACCD-FC2CCDD2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217B-5732-4B4F-BD3C-8C8A6DAD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4C0C-3E08-47C1-8313-B1E9A748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2692-C3F2-4EBD-A3BD-2B67B069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AD1-5C56-4C5E-9EB2-D1F78EB9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AA8F-9065-40FF-A2B1-54559382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AC44-5FB5-46DE-ACF9-8539232A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9138-09ED-4D00-83E7-221C11F3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5A55-AB27-4356-B20E-EFEE42FA1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C89A-FF52-418D-A598-FC2EEDD51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7. Стро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95AA-D507-4C40-A3E6-09686F293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8.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абота с файл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B487-F236-4FC7-993E-0EB389ECC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Указатель на фай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крытие фай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для чт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pen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xt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”, 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ля записи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*out = fopen (“output.txt”, “w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ля добавления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*f = fopen (“text.txt”, “a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0553-1665-48E1-96CD-103D28292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Чтение из фай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scan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“%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”, &amp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Запись в фай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print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ut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“%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”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6F86-F02E-41FA-B080-F5B338322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Чтение символа из фай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getc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Запись символа в фай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putc (c, ou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195A-BBCD-48DD-884E-EF454C22E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оверка конца фай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eo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Закрытие фай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close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6450-F921-4190-A7BA-8B8C285D2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ourier New"/>
              </a:rPr>
              <a:t>Рассмотрим пр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Входной файл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5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Иванов 4 3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Петров 5 5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идоров 3 3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узнецов 5 3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пов 5 4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ходной файл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Иванов   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Петров   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идоров  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узнецов 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пов    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8449-3320-4636-AAFA-AC7C22890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lude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dio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крытие фай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*in = fopen("input.txt", "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*out = fopen("output.txt", "w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чтение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n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scanf(in, "%d%d", &amp;n, &amp;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str[100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9B20-CF45-45EE-9E6A-CB0D3AFD2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j = 1; j &lt;= n; j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scanf(in, "%s", st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1; i &lt;= m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scanf(in, "%d", &amp;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printf (out, "%-10s%d\n", str, su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close(i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close(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4FFE-1D9B-4EE4-91AC-7DA5CC332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абота с файлами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 библиотекой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stre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59F1-784E-4622-AB0D-C5ED66D01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бъект для работы с фай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stream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fstream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крытие фай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для чт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stream in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xt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”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os::in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ля записи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fstream out(“output.txt”, ios::ou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ля добавления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fstream out(“output.txt”, ios::ap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0001-C24B-44A0-859E-92DDEFA55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од – вывод симв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clude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tdio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getchar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utchar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C099-80F6-4E27-A8C0-224B49D1D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Чтение из фай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 &gt;&gt;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Запись в фай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ut &lt;&lt;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3AB8-31ED-428B-BDBE-416452681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Чтение символа из фай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 &gt;&gt; c;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ИЛИ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in.get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Запись символа в фай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ut &lt;&lt; c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ИЛИ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ut.put( c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F0C7-9053-4F04-B530-1ED397365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оверка конца фай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.eof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Закрытие фай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.close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A021-B3E1-49DE-BF5B-C2E617E3C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ourier New"/>
              </a:rPr>
              <a:t>Рассмотрим пр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Входной файл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5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Иванов 4 3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Петров 5 5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идоров 3 3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узнецов 5 3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пов 5 4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ходной файл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Иванов   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Петров   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идоров  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узнецов 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пов    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F473-1BF3-410A-B8BD-DE010FF28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nclude "stdafx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nclude &lt;fstrea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ing namespace st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_tmain(int argc, _TCHAR* argv[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открытие фай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stream in("input.txt",ios::i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fstream out("output.txt",ios::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чтение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,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 &gt;&gt; n &gt;&gt; 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str[100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A889-C230-4AA9-B707-4881C31D8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1; j &lt;= n; j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 &gt;&gt; st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m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 &gt;&gt;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+=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 &lt;&lt; str &lt;&lt; " " &lt;&lt; sum &lt;&lt; "\n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5193-E099-4A97-8EE4-EDF17FE98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Ввод группы символов, заканчивающихся символом «*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TOP ‘*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(c = getchar()) != STOP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utchar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C617-9450-4A40-AFD8-7E4DADDC0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ка – это последовательность символов (элементов типа char), заканчивающаяся символом '\0‘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м образом, строка – это частный случай масси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им примеры объявления строк в програм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CAD8-DD33-48E2-945B-3C38BA4E4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s1[7] = 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осква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s2[10] = 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осква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s3[] = 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осква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s4[] = {‘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’,’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’,’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’,’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’,’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’,’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а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’,’\0’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*s5 = “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осква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 (“s1=%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n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2=%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n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3=%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n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4=%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n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5=%s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1,s2,s3,s4,s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42E6-0E10-43F7-9BF3-540D62738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и ввода – вывода ст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e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читает все символы до перевода строки ‘\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’, не включает его и вставляет символ '\0' в конец стр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u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водит символы строки, пока не дойдет до символа '\0', заменяя его при выводе символом перевода строки ‘\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69E0-6470-4336-AFBF-BFF8467BD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clude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tdio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name[100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 (“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ак Вас зовут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? 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ets (nam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 (“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Хорошее имя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: %s”, nam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s[]=”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До встречи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!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uts 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8012-AA51-4D53-8B7F-DA3062272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и работы со строками из библиотеки string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cmp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озвращает 0, если стро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идентичны, в противном случае возвращает разницу кодов ASCII в первом несовпадающем симв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len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числяет длину стро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имвола '\0'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cpy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пирует строку s2 в область памяти с адресом s1 (память должна быть выделена заране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cat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пирует строку s2 в конец строки s1 (память должна быть выделена заране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EF67-5809-425E-819A-1717AD4AD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сивы ст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s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[3][5]={“Один”, “Два”, “Три”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s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[][5]={“Один”, “Два”, “Три”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[]={“Один”, “Два”, “Три”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2:19:19Z</dcterms:created>
  <dc:creator>User</dc:creator>
  <dc:description/>
  <dc:language>en-US</dc:language>
  <cp:lastModifiedBy>user</cp:lastModifiedBy>
  <dcterms:modified xsi:type="dcterms:W3CDTF">2010-02-26T14:19:12Z</dcterms:modified>
  <cp:revision>88</cp:revision>
  <dc:subject/>
  <dc:title>Слайд 1</dc:title>
</cp:coreProperties>
</file>