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0475-C154-4777-8E85-382DCE28E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5523-B03C-43E4-8FE6-543FADA9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A8E3-6D5D-4076-9E84-1F8BBD48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FD48-40F8-49A8-8DC4-322DA1D62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4CFF-6765-4A5A-A8AF-197D0B02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31F3-187B-4706-8A5A-F82CBA0B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D190-C020-46EA-9940-80E8CDEC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CFC4-71F8-47EA-AD33-6BC63389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6932-A738-4A77-B6C1-373F3DF4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1A42-6C6B-4889-A7E5-71C2154A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F5F1-CD11-4975-923D-D3C54793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51C9-DF0E-47AF-87DC-2FBCDE17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D175-6C6C-43FB-A910-7AA98A47DF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B25D-51F5-446A-8174-39F33CA3B1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7. Структу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1229-D98B-41D5-B1C8-E0DAC0514C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lex X[N], Y[N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nn-NO" sz="2000" spc="-1" strike="noStrike">
                <a:solidFill>
                  <a:srgbClr val="000000"/>
                </a:solidFill>
                <a:latin typeface="Courier New"/>
              </a:rPr>
              <a:t>for (int i = 0; i &lt; N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f("\n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Введите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комплексное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число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f ("%f%f", &amp;X[i].Re, &amp;X[i].Im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[i] = X[i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f("\nY[%d]=(%5.1f,%5.1f)\n",i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[i].Re,Y[i].Im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3777-404C-4356-8405-06A62AB74E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Создание массив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ks,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содержащего названия книг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автора, це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Вывод названий и авторов книг дешевле 100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lude &lt;std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string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MaxTit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MaxAutor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MaxBooks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STOP “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title[MaxTitle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звание кни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author[MaxAutor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Автор кни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value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Цена кни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464B-664A-4FF7-83A8-8F64B7ED6A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k Books[MaxBooks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k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ts(“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название книги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ts(“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Пустая строка – конец ввода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strcmp(gets(Books[k].title),S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&amp; k &lt; MaxBoo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ts(“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фамилию: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ets(Books[k].autho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ts(“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цену: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f(“%f”,&amp;Books[k++].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ts(“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название книги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ts(“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Пустая строка – конец ввода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46F3-5A0F-44C6-809A-A602B558EF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ts(“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Список книг дешевле 100 рублей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k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Books[i].value &lt; 1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“%s %s\n”,Books[i].title,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ks[i].autho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8215-4C51-470D-942B-4DF90F447B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ункции и струк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4841-07A7-4436-9183-6C0F456CE7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Функция для сложения двух комплексных чи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передача по адрес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um(complex x, complex y, complex *z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 a = {2.3, 3.1}, b = {3.4, -5.7},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(a, b, &amp;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c=(%5.1f,%5.1f)",c.Re,c.Im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um(complex x, complex y, complex *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z -&gt; Re = x.Re + y.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z -&gt; Im = x.Im + y.I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B952-DF53-43A2-A642-2143C7F0D8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Функция для сложения двух комплексных чи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передача по ссыл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um(complex x, complex y, complex &amp;z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 a = {2.3, 3.1}, b = {3.4, -5.7},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(a, b, 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c=(%5.1f,%5.1f)",c.Re,c.Im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um(complex x, complex y, complex &amp;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z.Re = x.Re + y.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z.Im = x.Im + y.I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B732-E0EB-4CAC-B8AC-CEE1B4897E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Функция для сложения двух комплексных чи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возвращаем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 sum(complex x, complex 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 a = {2.3, 3.1}, b = {3.4, -5.7},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 = sum(a, 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c=(%5.1f,%5.1f)",c.Re,c.Im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 sum(complex x, complex 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 z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z.Re = x.Re + y.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z.Im = x.Im + y.I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z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08EC-67F7-476D-B924-7F13F1AAFB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Функция для сложения двух комплексных чи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экономия памяти и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 sum(const complex &amp;x, const complex &amp;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 a = {2.3, 3.1}, b = {3.4, -5.7},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 = sum(a, 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c=(%5.1f,%5.1f)",c.Re,c.Im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 sum(const complex &amp;x, const complex &amp;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 z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z.Re = x.Re + y.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z.Im = x.Im + y.I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z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15BA-8188-41C2-87C0-7B2DFC5FAD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уктуры представляет собой производный (составной) тип, определяемый программистом, создаваемый на основе существующих типов. Структура включает в себя данные, называемые по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017E-CE71-47A7-8F22-01DC0EAF53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исание структуры имеет следующий форма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[имя_структуры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[тип_1] [имя_поля_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[тип_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] [имя_поля_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2E80-86A5-46B8-9BD6-218863B908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 описания структуры для комплексных чисе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Вещественная ч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Re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Мнимая ч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Im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0D2F-4797-4260-BF06-8618172D1F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описания структуры можно объявить один или несколько объектов (переменных) как экземпляров этой струк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Объявлен объект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типа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 x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Объявлен указ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 объект типа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6221-BDD9-45A8-B153-3D2E96CA4A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доступа к полям (компонентам) объекта используется точ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имя_объекта.имя_п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обращение к полю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бъекта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m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обращение к полю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бъекта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4C8B-5C47-4AFF-9922-0D2581619E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способ для доступа используется тогда, когда объявляется указатель на объект некоторой струк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имя_указателя-&gt;имя_п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= &amp;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обращение к полю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объекта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-&gt;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то же са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*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.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955D-E929-49A0-81D2-35B68B528E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Комплексные чи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lude &lt;std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I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 x = {2.5, 3.7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 y = 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Re=%-4.1f\nIm=%-4.1f\n",y.Re,y.Im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2B4C-18B3-4E26-B7F6-8A9E5AB7B7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Создание массива комплексных чи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Присвоение значений массива другому масси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lude &lt;std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I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12:19:19Z</dcterms:created>
  <dc:creator>User</dc:creator>
  <dc:description/>
  <dc:language>en-US</dc:language>
  <cp:lastModifiedBy>C2User1</cp:lastModifiedBy>
  <dcterms:modified xsi:type="dcterms:W3CDTF">2009-10-05T15:31:34Z</dcterms:modified>
  <cp:revision>102</cp:revision>
  <dc:subject/>
  <dc:title>Слайд 1</dc:title>
</cp:coreProperties>
</file>