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4DE0-3E48-452E-A443-C9D4EF8FF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20A9-5889-4472-9013-18E5420E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7C64-9B6C-4EE0-8980-AA846EC5A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0254-FCC3-4A5C-B26F-70128BB74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B459-9BB7-4B6E-9A71-5B8A64F9A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AC9E-441F-4CD6-9A65-1FAFBB074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5773-3788-4671-8422-5DE374B28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01B1-DB56-4026-B03F-F0D9B75C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A832-93F7-483A-A71F-24589B116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8841-A2EA-4CD3-999D-7BB54A82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C15D-6AC2-451C-8AD0-2FF52DC4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DFF5-8DF8-401A-A2FD-2B3A9F6D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7621C-BBEC-4386-955B-8082EDCF25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5C39D-4158-434C-B4F3-ED23BF876F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§4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. Управляющие структу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1268-DDBF-46D8-9DFE-DBB21CE656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ератор выхода из цикл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ератор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именяется для прерывания выполнения цикла. Применяется в операторах цикл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Если оператор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спользуется во вложенных циклах, то он прерывает выполнение только того цикла, в котором находи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8285-AB3D-42A9-AA1D-A5081B3722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ератор выхода из итерации цикл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ератор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именяется для прерывания выполнения текущей итерации цикла и перехода на следующую итерацию цикла. Применяется в операторах цикл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операторах цикл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и выполнение оператор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оисходит переход на проверку условия, а в оператор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на выполнение выражения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EBF0-ED6F-487B-AD1F-D0AE3FC955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ератор выбор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(выраж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se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константа1: оператор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se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константа2: оператор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se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константа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: оператор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fault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: оператор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начала вычисляется выражение, затем происходит переход на метку case со значением константы, равной значению выражения и выполняются все операторы, находящиеся после этой мет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команд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k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сходит выход из оператор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значение выражения не найдено, то происходит переход на метку default, которая является необязатель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станты должны быть целого тип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2CCC4-CB48-4AA5-BC1E-83E3BC0AB2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 = 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witch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 1: y = x; brea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 2: y = -x; brea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 3: y = x * x; brea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ault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8E477-09AE-4E98-ACE1-88B9C32D2F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ератор переход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oto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 метка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метка: опер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ератор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t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существляет переход к оператору, следующему за меткой. Желательно избегать применения этого операт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oto 7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**************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: puts(“A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40846-7D9F-4C54-A200-5B9D42B926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§5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. Массив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228C1-9BF5-4FC6-B881-B3C8DE1F4D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сив – набор однотипных объектов, имеющих общее имя и различающихся номером (индексо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менты массива располагаются последовательно друг за другом и занимают один непрерывный участок памяти. Доступ к элементу массива осуществляется указанием после имени массива в квадратных скобках индекса элеме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объявлении массива после имени массива в квадратных скобках указывают число его элементов. Нумерация элементов массива начинается с ну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означает, что если в массив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лементов, то его индексы имеют значения от 0 д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2D4ED-6FC4-4DC5-BEF9-DC77EACB77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// Присвоение первому элементу массива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s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[0]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// Чтение шестого эле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a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s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[5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87AC7-C37B-4329-A31A-070FF6A110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атические масси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объявлении статического массива уже на этапе компиляции должно быть известно число его элем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// Объявление массива из 10 целых чис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s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[10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ициализация массива – присвоение начальных значений его элементам при объявл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prime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[10] = {2, 3, 5, 7, 11, 13, 17, 19, 23, 29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[5] = {1, 2, 3}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// последние – ну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s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[] = {-1, 0, 1}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// длина определя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компилято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4679-0F50-444F-982D-772FA31A2E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ссивы и указа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я массива – константа указатель адреса первого элемента массива. Поэтому для обращения к первому элементу массива можно использовать следующие вариан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A[0]   либо   *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обращения к i-му элементу массива можно поступать т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A[i]   либо   *(A+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бавление к указателю целого числа i обеспечивает адресацию i-го элемента массива, независимо от типа его элем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5B071-C4F4-4C28-BC79-6405D35D6F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ератор присваи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переменная = выраж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a = 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0236D-2E05-49E3-BAC0-FB41B7A63E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вумерные статические масси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м пример объявления двумерного статического масси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int A[2][3];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этом примере объявляется двумерный массив размером 2 на 3. Число элементов первого измерения обычно называют числом строк, второго – числом столбц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умерные массивы удобно изображать в виде таблиц. Каждый элемент таблицы имеет пару индексов – номер строки и номер столб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щение к элементам двумерного масси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A[0][1], A[i][j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073B8-32F4-4D3D-866D-0C41205EA5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 инициализации при объявлении двумерного статического масси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int A[2][3] = {{5, 7, 3},{1, 4, 9}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изображении массива в виде таблицы получае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B9FA6-A339-4D24-9080-FEDE152716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умерный массив A[m][n] можно рассматривать как одномерный массив из m одномерных массивов по n элем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перативной памяти элементы двумерного массива располагаются последовательно следующим образ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A[0][0], A[0][1], A[0][2], A[1][0], A[1][1], A[1][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CA77C-3C2A-4B7E-883E-BAF7F3D279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намические масси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сив называется динамическим, если память под него выделяется в процессе выполнения програм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работы с динамическими массивами необходимо использовать указат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выделения памяти можно использовать оператор new, для освобождения памяти – оператор dele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int *A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// Объявление указа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int N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// Объявление перемен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// (N – число элементов массив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N = 100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// Число элементов массива =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A = new int [N]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// Выделение памя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альная инициализация невозмож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E49C4-37AC-4BE7-BF7A-B9E1765755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вумерные динамические масси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м два способа выделения памяти под двумерный динамический масси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ый способ – представление двумерного массива в виде одномерног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*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,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 = 2, n = 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 = new int [m * n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 = 0; i &lt; m; i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j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= 0;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*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] =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*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BFC4D-EA7B-4F13-B660-DA2A57F01E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орой способ – выделение памяти под одномерный масси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казателей, затем в цикле каждому указателю присваивается адрес отдельного выделенного участка памяти из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лемен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**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,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 = 2, n = 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 = new int* [m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 = 0; i &lt; m; i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[i] = new int [n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j = 0; j &lt; n; j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][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] =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*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4F5E8-E84D-4315-9552-3BB844C3FF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орой способ допускает использование ступенчатых массивов, когда строки массива содержат различное число элемен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**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,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 = 2, n = 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 = new int* [m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 = 0; i &lt; m; i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[i] = new int [i + 1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j = 0; j &lt;= i; j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][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] =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*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720DA-581D-4836-B6AB-1A3D918C30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ставной опера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оператор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оператор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оператор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ной оператор заключается в последовательном выполнении вложенных в него операторов и рассматривается как единый операто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E211-C6F1-454F-A1DF-CBFE10BD3F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словный оператор 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 (выражени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опера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выражение истинно (отлично от нуля), то выполняется оператор, иначе – не выполня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 &gt;=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 +=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2700-06E7-41C9-96E7-05B563C236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словный оператор if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 (выражени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оператор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оператор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ыражение истинно, то выполняется оператор1, иначе – выполняется оператор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 &gt;=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 +=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++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EAFEE-5F23-461C-95FB-D8BB67845C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ератор цикла с предусловием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(выраж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опер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ка выражение истинно выполняется операт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шаг 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если выражение истинно, то перейти на шаг 2, иначе закончить цик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шаг 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выполнить оператор, перейти на шаг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бы цикл не был «вечным», внутри оператора должны быть выполнены действия, меняющие выражение. Каждое выполнение оператора называется итерацией цик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s = 0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&lt;=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+=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++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1ED07-A1A6-4041-B6BC-EC9FAA70DF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4000" y="189000"/>
            <a:ext cx="84596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ератор цикла с постусловием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опер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(выраж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тор выполняется до тех пор, пока выражение истинно. На первой итерации цикла оператор выполняется всег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шаг 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выполнить оператор, перейти на шаг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шаг 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если выражение истинно, то перейти на шаг 1, иначе закончить цик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s = 0; a =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s += 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--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&gt;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52F7-9C94-4DCA-82F2-D0A6A68322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ератор цикла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(выражение1; выражение2; выражение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опер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ачале вычисляется выражение1. Затем до тех пор, пока значение выражения2 отлично от нуля (истинно) последовательно выполняются оператор и вычисляется выражение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шаг 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вычислить выражение1, перейти на шаг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шаг 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если выражение2 отлично от нуля, то перейти на шаг 3, иначе закончить цик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шаг 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выполнить оператор, перейти на шаг 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шаг 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вычислить выражение3, перейти на шаг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правило, в цикл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спользуется специальная переменная – счетчик итераций цикла. Чаще всего, выражение1 устанавливает начальное значение счетчика цикла, выражение2 проверяет значение счетчика, а выражение3 изменяет его значение. Оператор называется телом цикла, в качестве него может быть использован простой  или составной операт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89B4E-F758-40F5-891A-C886B4B3E4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459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= 0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= 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= 1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&lt;=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+=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0T12:19:19Z</dcterms:created>
  <dc:creator>User</dc:creator>
  <dc:description/>
  <dc:language>en-US</dc:language>
  <cp:lastModifiedBy>C2User1</cp:lastModifiedBy>
  <dcterms:modified xsi:type="dcterms:W3CDTF">2009-10-05T13:04:26Z</dcterms:modified>
  <cp:revision>39</cp:revision>
  <dc:subject/>
  <dc:title>Слайд 1</dc:title>
</cp:coreProperties>
</file>