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415-3AAB-4AD1-B088-7928D6A9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F3C-0A9F-4993-AC9A-DB7853C6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3BB-1787-4554-8D5C-B0516E90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704-3652-48F5-A088-BB2FA898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74D-7FB1-46BB-AD7B-AD20D0F5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393-5E00-41DB-B781-EEAAD536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F09-DCA9-4785-BC32-517EE629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888-BC09-4D4B-A803-8A2EE43B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409-3311-4007-847E-54D48F2D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868-57FF-459A-9FA8-4850053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A4D-1DDC-4B4E-B252-138EBAB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CF3-A459-44DB-9829-9D582A98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2D5-408B-4BA2-8C5E-BC618B1E2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7C39-60CF-49CD-B13C-62472FFD5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67B4-F994-4B89-99DE-2153A5620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конста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3.14162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перемен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a + b) / (c -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вызова 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qrt (1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E18-4721-41CA-BD6E-9F572ED6E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я простого присва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x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12DF-9F18-4800-B202-5696D1A94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арные операции инкр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++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a = a + 1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арные операции декр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--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a = a - 1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ные операции присва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a = a + b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a = a - b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=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a = a * b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=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a = a / b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=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a = a % b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683-7474-4EEA-9DC2-55E923600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я запят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=1, j=0, k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DDB-BFBB-4B1D-B7A4-155DF5B91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ь действий, которые должен выполнить компьютер, состоит из опера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ются последователь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за друг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нчиваются точкой с запя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содержать несколько действий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разделены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AE2B-2A32-4C57-A197-A29D865C1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ы опера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C4E-1840-4143-80E0-EDD5A6A9C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устой опер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держит только точку с зап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8BE9-5AA0-4ECC-85C9-F524F3A93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е, после которого стоит точка с запятой, – эт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-вы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полнении этого оператора вычисляется значение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B9B2-34FE-4C32-B929-BCD4DD0EE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ор, в котором используется операция присваивания, назы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ом присваи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D65-7CFC-4B41-9DA5-E839C16DC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оры можно объединять в блоки 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ные опер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ри помощи фигурных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+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158-CAA2-45BD-AB5F-409C79793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0"/>
          <p:cNvSpPr/>
          <p:nvPr/>
        </p:nvSpPr>
        <p:spPr>
          <a:xfrm flipH="1">
            <a:off x="2411280" y="2205000"/>
            <a:ext cx="1944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Line 1"/>
          <p:cNvSpPr/>
          <p:nvPr/>
        </p:nvSpPr>
        <p:spPr>
          <a:xfrm>
            <a:off x="5003640" y="2205000"/>
            <a:ext cx="180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AAD0-375B-4EE4-9E5E-4D79E1534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так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ы объявления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ы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09F4-48BC-43FD-B546-33421F5A1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5EE5-6344-4E89-AC08-D0C069E00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данных опреде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допустимых знач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разрешенных операц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 хранения в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E8CE-0A56-4A9B-AEAF-5DE474370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е (встроенные) типы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устой тип) не имеет значений, он используется чаще всего для описания функций, не возвращающих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стальные базовые типы являются скалярными, то есть числов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EB22-1A50-4676-869A-205F8C6ED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711360" y="189000"/>
          <a:ext cx="772128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89000"/>
                    <a:ext cx="7721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87FA-4B31-45DE-BBFA-AFFA93B46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е целые типы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целочисленными ти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24E7-32CE-48E7-98ED-EF4FAD9AC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числа байт, отводимых для типа дан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ти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перемен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07C9-DD3C-4835-B45B-BAF5F051A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и над целыми чис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умн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целочислен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остаток от 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F439-4952-4C67-83EB-4A53761F1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итовые оп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целы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Побитовое НЕ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Сдвиг в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Сдвиг 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Побитовое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Побитовое Исключающее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Побитовое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3D92-DCDF-4DFE-A461-C57D99A61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и над вещественными чис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умн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271F-D913-462B-8403-EC52F7FF4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программирования Си разработан в 1972 году сотрудником фирмы AT&amp;T Bell Laboratories Денисом Рит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образом является язык Би, разработанный Кеном Томпс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чиком языка Си++ является Бьерн Страуструп (начало 80-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56CB-C26D-42C3-93BC-C4F0799E8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меньше или 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больше или 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не 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CA8C-A7F9-46BA-9708-AABB7A85F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зыках C / C++ истинной считается любое числовое значение, отличное от нуля; ложью – ноль. Если  логическое выражение истинно, то его результатом будет единица, если ложно – н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5 &gt;= 1 равно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5 &lt; 1 равно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6D09-D5B5-41BC-B6DD-EFC0FAAC7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я логическое И (конъюнкция) &amp;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A &amp;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D9CA-857A-4DE1-B743-40EE0AFEA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я логическ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(дизъюнкция) 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C5A0-DCF7-44EA-965C-97898141F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я логическ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(отрицание)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!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0E2E-AF67-40DF-8FD6-863A37657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ритет опе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9D50-1FF0-4387-8027-BF831A1B4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логического усло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(a &gt; 10 || b &gt;= 10) &amp;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(a &lt;= 0 || b &lt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368-5F03-4D63-9538-178EAE45A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базовых типов можно определять производные типы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числовые) типы дан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типы дан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8905-9536-4887-98B7-333E1DCD2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образование 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ераторах и выражениях должны использоваться переменные и константы только одного типа. При смешивании типов в одном выражении компилятор использует набор правил для автоматического преобразования типов (так называемое неявное преобразов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9986-FA59-483B-83D5-2C09DBED8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перация выполняется над данными двух различных типов, обе величины приводятся к высшему из двух типов (повышение типа). Последовательность имен типов, упорядоченных от высшего типа к низшему, выглядит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ouble, float, long, int, short, ch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ключевого слова unsigned повышает ранг соответствующего типа данных со зн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ераторе присваивания конечный результат вычисления выражения в правой части приводится к типу переменной, которой должно быть присвоено это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7DC-922D-48E2-A88B-42C91CAF7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программа на языке С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m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ts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(“Здравствуй, мир!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m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&lt;&lt; “Здравствуй, мир!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2A47-62D6-4ED7-8CD3-BEAEEE6E1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также явное преобразование ти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тип)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float) a / (float)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A648-FDDE-4BC2-865C-62FD546B3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3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Переменны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 указ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262-0C3A-4276-8BEF-A69900A09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ор объявления перем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тип имя_перемен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тип имя_переменной = зна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a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long b = 10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множ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вление переме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a, c =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ong b = 100, d = 50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64E-B343-4ED8-AA1D-9391622B0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и значение литеральной константы определяется ее внешним ви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   3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A’   ’\n’   ’\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о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”Consta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D31-344D-4282-B159-83E742BAB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ффиксы для задания числовых конс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long a = 5000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unsigned int b = 250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unsigned long c = 555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float x = 3.1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long double y = 3e250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B0D1-07B2-4CEF-93E9-CB8DB6FA8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символических конста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const тип имя_константы = зна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const int five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const float PI = 3.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препроцессора для задания конста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#define fiv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#define PI 3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5EBD-9BCC-47FF-B179-CB99FD64D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перечисления для задания конста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enum number {ZERO,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THREE = 3, FOUR, FIV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м константы со знач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 1, 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BBC-055E-4C65-96F7-4A005855C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бъявлении переменной имеет значение место ее объявления – от этого зависит возможность ее использования в различных частях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вид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D462-4C68-452B-96BC-312459652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переменной – это то время работы программы, когда существует перемен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ь видимости – это участок кода программы, в котором возможен доступ к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F8CF-436F-43C6-8D90-11C2879AA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кальные пе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вляются внутри блока (между фигурными скобк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ь видимости - между определением переменной и концом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- время выполнения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3EF-7606-4123-AFBB-94733650E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 комментари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комментарий следует до конц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* а такой 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можно запис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в несколько строк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2B3D-8D50-49BF-83B4-17B3071C2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альные пе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вляются вне рамок какого-либо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ь видимости – до конца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время выполнения все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C7C5-BC35-4F88-8B91-09264E7DF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программе объявлены глобальная и локальная переменные с одинаковыми именами, то в блоке, в котором видны обе эти переменные, обращение происходит к локальной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бращения к глобальной переменной используется опер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a, b,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 = a; 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локальная перем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= ::a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глобальная перем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464-3D11-4993-A697-DA3DF2BB7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з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затель – это объект, содержащий адрес объекта или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указа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тип *идентификат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Указател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переменную тип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Указател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переменную тип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33E-D57C-4651-B961-504773201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4000" y="189000"/>
            <a:ext cx="8280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адреса ячейки памяти, содержащей переменную – операция &amp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a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x = 3.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&amp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&amp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EF1C-A475-4243-A88F-DD925BB68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496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я косвенной адресации * позволяет обратиться к переменной через указатель, содержащей адрес этой переменной (то есть косвенно, а не напряму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y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3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сказать, что операция * является обратной к &amp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FF6-4C89-4AE7-8067-F4B20F2DE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496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описывается переменная – указатель, то  автоматически не выделяется память под объект, на который ссылается указате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Указатель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на объект цел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Ошибка! Не выделена память под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=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/ Логическая ошибка! По адресу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«ничего 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AD6-A037-435A-9B83-E6F6C2CCA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842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держит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lo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o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иблиоте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li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деления области памяти. В 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+ появился операто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деления памяти под объ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(2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EEA3-5A5D-4643-92A3-9E7DA2F35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842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учае успешного выполнения операто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звращает адрес выделенного участка памяти, иначе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DFE5-D8D7-4B81-9DC7-0F62A9262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496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исунке показано, что указатель и объект (переменная), адрес которого хранит указатель – это два различных объекта в памяти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"/>
          <p:cNvGrpSpPr/>
          <p:nvPr/>
        </p:nvGrpSpPr>
        <p:grpSpPr>
          <a:xfrm>
            <a:off x="826920" y="2060640"/>
            <a:ext cx="7417080" cy="3600360"/>
            <a:chOff x="826920" y="2060640"/>
            <a:chExt cx="7417080" cy="3600360"/>
          </a:xfrm>
        </p:grpSpPr>
        <p:sp>
          <p:nvSpPr>
            <p:cNvPr id="220" name="Freeform 3"/>
            <p:cNvSpPr/>
            <p:nvPr/>
          </p:nvSpPr>
          <p:spPr>
            <a:xfrm>
              <a:off x="826920" y="2060640"/>
              <a:ext cx="7417080" cy="360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2151000" y="2780640"/>
              <a:ext cx="1987920" cy="9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urier New"/>
                </a:rPr>
                <a:t>Указатель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5463720" y="4702320"/>
              <a:ext cx="238428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urier New"/>
                </a:rPr>
                <a:t>Переменная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>
              <a:off x="4139280" y="3260880"/>
              <a:ext cx="264852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24" name="Line 11"/>
          <p:cNvSpPr/>
          <p:nvPr/>
        </p:nvSpPr>
        <p:spPr>
          <a:xfrm>
            <a:off x="6443640" y="407664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012000" y="450864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DBF-BE57-42AF-A53C-F3106B10E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842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ержит функци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блиоте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li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вобождения области памяти. В 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+ используется операто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вобождения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в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ичего не выполняет. Если ж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содержит значения адреса выделенной ранее памяти, то поведение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определе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82AF-21C2-40DA-BBED-1377FE08D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фавит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, B,…, Z, a, b ,…, z, 0, 1,…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+ - *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&lt; &gt;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| &amp;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\ ~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@ # $ % ?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: ; ,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( ) [ ] { }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9887-E235-41D1-BEDC-532DCA041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496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ылки – видоизмененная форма указателя, используется в качестве псевдонима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ии ссылки используется символ &amp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a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&amp;b = 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+= 5; // Переменная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станет равна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ылки используют для различных целей, например при передаче параметров функ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CD4F-755C-4E46-B0ED-EDBEFC8D3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нтификатор – это последовательность символов из латинского алфавита, арабских цифр и символа подчеркивания, которая начинается не с циф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идентифика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, x1, x2, mas, n_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381A-711D-47FE-A7EF-AF01FE0A0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и задают некоторое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унарной опер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- (мину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бинарных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+ (сло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- (вычит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* (умно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/ (де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% (остаток от де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тернарной опер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?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ирование на С++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B97C-2619-4C0E-A833-E5BA5EFA2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е – это последовательность знаков операций, операндов и круглых скобок, которая задает вычислительный процесс получения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-b+sqrt(D))/(2*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ндами могут выступ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анты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, D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зовы функций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rt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8:12:51Z</dcterms:created>
  <dc:creator>User</dc:creator>
  <dc:description/>
  <dc:language>en-US</dc:language>
  <cp:lastModifiedBy>C2User1</cp:lastModifiedBy>
  <dcterms:modified xsi:type="dcterms:W3CDTF">2009-10-05T16:11:29Z</dcterms:modified>
  <cp:revision>73</cp:revision>
  <dc:subject/>
  <dc:title>Слайд 1</dc:title>
</cp:coreProperties>
</file>